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CEF-2F29-4276-A73A-6423B022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69E-F11C-4770-9CD0-E96DEFBD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6CF-AE66-49D2-B58D-2078476E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461-80F4-4A00-BB03-6F151CA7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0AC5-7B98-4983-AAB2-8E62105D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AB96-DBEB-4F3B-9427-D5954E53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5A8F-49FB-43A9-AE71-987B027F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CE94-EFAF-4DAD-AF35-282CA644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A5DF-ED50-46B7-8EF9-E83C69DD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3B1-BC64-452A-91D7-8CC8D0CB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9973-0591-4DBE-9C78-3D393C0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A0C-D69D-45D2-B5A8-48B0043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849A-B90A-43FD-B5A2-36B9949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063C-4DC8-4E38-BA12-CFF090B8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54BC-93A5-4CAB-AF3A-4C30C675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4DFF-EFEA-445E-9379-9B7B1B34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68A8-7B7D-4F77-A22A-5D310E94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AAEE-E9FF-4ED2-9330-FF8772CB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B873-D06B-4C99-A09C-46F4C6E1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86F2-DBF2-4750-A515-80D99380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38F7-81FE-4248-8402-7AD97374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B3F4-BB18-4101-980E-5C5F1CA7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E09-F605-4E15-8A48-C467995D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A8FE-0ACC-4F3B-91DF-B083BDDC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B58D-1F88-4A5F-9A67-B79925A0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9DB8-B744-4597-AC0F-9AF124DE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4D95-C2E9-4AFB-A297-C90931E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DD6A-3D3D-4271-88C8-50901405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B11A-3840-4E12-9299-E41C3642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0D9E-6012-4187-85ED-19D9B8C0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0F8-B3AB-4AD4-877B-650768E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2CA-7176-41DC-B27A-FCB65B8D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47B-7103-4E66-8199-7B51784D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A03-75E9-46CA-8E69-F059F5B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0FF-1DE9-4804-9AC2-D613634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D5E-9ABA-4CD3-9901-4EDADEC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6F3-AA88-4EBB-9EF0-555768F12B5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5F7F-964D-4013-BA32-A38D12382C9E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80B-3063-4575-80AB-62F5AE4D3079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764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оизводная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1042920" y="1916280"/>
                <a:ext cx="29512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1042920" y="3213000"/>
                <a:ext cx="366408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476360" y="2205000"/>
                <a:ext cx="165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1692360" y="2852640"/>
                <a:ext cx="1922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76360" y="3429000"/>
                <a:ext cx="2160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1476360" y="3789360"/>
                <a:ext cx="2008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Text Box 12"/>
          <p:cNvSpPr/>
          <p:nvPr/>
        </p:nvSpPr>
        <p:spPr>
          <a:xfrm>
            <a:off x="6156360" y="4365720"/>
            <a:ext cx="2720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3"/>
              <p:cNvSpPr txBox="1"/>
              <p:nvPr/>
            </p:nvSpPr>
            <p:spPr>
              <a:xfrm>
                <a:off x="6877080" y="4005360"/>
                <a:ext cx="855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4"/>
              <p:cNvSpPr txBox="1"/>
              <p:nvPr/>
            </p:nvSpPr>
            <p:spPr>
              <a:xfrm>
                <a:off x="7164360" y="4653000"/>
                <a:ext cx="790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5"/>
              <p:cNvSpPr txBox="1"/>
              <p:nvPr/>
            </p:nvSpPr>
            <p:spPr>
              <a:xfrm>
                <a:off x="6877080" y="4869000"/>
                <a:ext cx="83808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6"/>
              <p:cNvSpPr txBox="1"/>
              <p:nvPr/>
            </p:nvSpPr>
            <p:spPr>
              <a:xfrm>
                <a:off x="7164360" y="4797360"/>
                <a:ext cx="719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0" name="Text Box 19"/>
          <p:cNvSpPr/>
          <p:nvPr/>
        </p:nvSpPr>
        <p:spPr>
          <a:xfrm>
            <a:off x="49334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094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493344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4716360" y="2276640"/>
            <a:ext cx="2449440" cy="2087280"/>
            <a:chOff x="4716360" y="2276640"/>
            <a:chExt cx="2449440" cy="2087280"/>
          </a:xfrm>
        </p:grpSpPr>
        <p:sp>
          <p:nvSpPr>
            <p:cNvPr id="384" name="Line 17"/>
            <p:cNvSpPr/>
            <p:nvPr/>
          </p:nvSpPr>
          <p:spPr>
            <a:xfrm flipV="1">
              <a:off x="5148360" y="2276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4716360" y="3860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22"/>
            <p:cNvSpPr/>
            <p:nvPr/>
          </p:nvSpPr>
          <p:spPr>
            <a:xfrm flipV="1">
              <a:off x="5435640" y="2565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23"/>
          <p:cNvSpPr/>
          <p:nvPr/>
        </p:nvSpPr>
        <p:spPr>
          <a:xfrm>
            <a:off x="4717800" y="3068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5148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5"/>
          <p:cNvSpPr/>
          <p:nvPr/>
        </p:nvSpPr>
        <p:spPr>
          <a:xfrm>
            <a:off x="54356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514800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6732720" y="256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8"/>
          <p:cNvSpPr/>
          <p:nvPr/>
        </p:nvSpPr>
        <p:spPr>
          <a:xfrm>
            <a:off x="5003640" y="2565360"/>
            <a:ext cx="144720" cy="1150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9"/>
          <p:cNvSpPr/>
          <p:nvPr/>
        </p:nvSpPr>
        <p:spPr>
          <a:xfrm rot="16200000">
            <a:off x="6048360" y="3320640"/>
            <a:ext cx="71640" cy="1297080"/>
          </a:xfrm>
          <a:custGeom>
            <a:avLst/>
            <a:gdLst>
              <a:gd name="textAreaLeft" fmla="*/ 45720 w 71640"/>
              <a:gd name="textAreaRight" fmla="*/ 72000 w 71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9"/>
                </a:lnTo>
                <a:cubicBezTo>
                  <a:pt x="10800" y="9989"/>
                  <a:pt x="5400" y="10889"/>
                  <a:pt x="0" y="10889"/>
                </a:cubicBezTo>
                <a:cubicBezTo>
                  <a:pt x="5400" y="10889"/>
                  <a:pt x="10800" y="11789"/>
                  <a:pt x="10800" y="126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941800" y="3933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1"/>
              <p:cNvSpPr txBox="1"/>
              <p:nvPr/>
            </p:nvSpPr>
            <p:spPr>
              <a:xfrm>
                <a:off x="4500720" y="3500280"/>
                <a:ext cx="62208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2"/>
              <p:cNvSpPr txBox="1"/>
              <p:nvPr/>
            </p:nvSpPr>
            <p:spPr>
              <a:xfrm>
                <a:off x="6588000" y="3933720"/>
                <a:ext cx="6480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3"/>
              <p:cNvSpPr txBox="1"/>
              <p:nvPr/>
            </p:nvSpPr>
            <p:spPr>
              <a:xfrm>
                <a:off x="5651640" y="3933720"/>
                <a:ext cx="191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4"/>
              <p:cNvSpPr txBox="1"/>
              <p:nvPr/>
            </p:nvSpPr>
            <p:spPr>
              <a:xfrm>
                <a:off x="4932360" y="2924280"/>
                <a:ext cx="193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Oval 35"/>
          <p:cNvSpPr/>
          <p:nvPr/>
        </p:nvSpPr>
        <p:spPr>
          <a:xfrm flipH="1" flipV="1">
            <a:off x="5723640" y="382356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6"/>
          <p:cNvSpPr/>
          <p:nvPr/>
        </p:nvSpPr>
        <p:spPr>
          <a:xfrm flipH="1" flipV="1">
            <a:off x="5723640" y="36442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7"/>
          <p:cNvSpPr/>
          <p:nvPr/>
        </p:nvSpPr>
        <p:spPr>
          <a:xfrm flipH="1" flipV="1">
            <a:off x="6587280" y="3823560"/>
            <a:ext cx="7164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8"/>
          <p:cNvSpPr/>
          <p:nvPr/>
        </p:nvSpPr>
        <p:spPr>
          <a:xfrm flipH="1" flipV="1">
            <a:off x="6587280" y="299736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9"/>
          <p:cNvSpPr/>
          <p:nvPr/>
        </p:nvSpPr>
        <p:spPr>
          <a:xfrm flipV="1">
            <a:off x="5761080" y="37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0"/>
          <p:cNvSpPr/>
          <p:nvPr/>
        </p:nvSpPr>
        <p:spPr>
          <a:xfrm flipH="1">
            <a:off x="5184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1"/>
          <p:cNvSpPr/>
          <p:nvPr/>
        </p:nvSpPr>
        <p:spPr>
          <a:xfrm flipH="1">
            <a:off x="5113440" y="2997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2"/>
          <p:cNvSpPr/>
          <p:nvPr/>
        </p:nvSpPr>
        <p:spPr>
          <a:xfrm flipH="1" flipV="1">
            <a:off x="5113440" y="3607560"/>
            <a:ext cx="712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3"/>
          <p:cNvSpPr/>
          <p:nvPr/>
        </p:nvSpPr>
        <p:spPr>
          <a:xfrm>
            <a:off x="5149800" y="30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4"/>
          <p:cNvSpPr/>
          <p:nvPr/>
        </p:nvSpPr>
        <p:spPr>
          <a:xfrm>
            <a:off x="662148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3637800" y="4869000"/>
            <a:ext cx="166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й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а и та же л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7"/>
          <p:cNvGrpSpPr/>
          <p:nvPr/>
        </p:nvGrpSpPr>
        <p:grpSpPr>
          <a:xfrm>
            <a:off x="971640" y="4292640"/>
            <a:ext cx="2449440" cy="2087280"/>
            <a:chOff x="971640" y="4292640"/>
            <a:chExt cx="2449440" cy="2087280"/>
          </a:xfrm>
        </p:grpSpPr>
        <p:sp>
          <p:nvSpPr>
            <p:cNvPr id="411" name="Line 48"/>
            <p:cNvSpPr/>
            <p:nvPr/>
          </p:nvSpPr>
          <p:spPr>
            <a:xfrm flipV="1">
              <a:off x="1403640" y="4292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971640" y="5876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50"/>
            <p:cNvSpPr/>
            <p:nvPr/>
          </p:nvSpPr>
          <p:spPr>
            <a:xfrm flipV="1">
              <a:off x="1690920" y="4581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51"/>
          <p:cNvSpPr/>
          <p:nvPr/>
        </p:nvSpPr>
        <p:spPr>
          <a:xfrm>
            <a:off x="1167840" y="5897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3349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1116000" y="4221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5"/>
          <p:cNvSpPr/>
          <p:nvPr/>
        </p:nvSpPr>
        <p:spPr>
          <a:xfrm>
            <a:off x="1332000" y="544500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6"/>
          <p:cNvSpPr/>
          <p:nvPr/>
        </p:nvSpPr>
        <p:spPr>
          <a:xfrm>
            <a:off x="2411280" y="544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7"/>
          <p:cNvSpPr/>
          <p:nvPr/>
        </p:nvSpPr>
        <p:spPr>
          <a:xfrm>
            <a:off x="2411280" y="584028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8"/>
          <p:cNvSpPr/>
          <p:nvPr/>
        </p:nvSpPr>
        <p:spPr>
          <a:xfrm flipV="1">
            <a:off x="2446200" y="55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9"/>
          <p:cNvSpPr/>
          <p:nvPr/>
        </p:nvSpPr>
        <p:spPr>
          <a:xfrm flipH="1">
            <a:off x="1403280" y="5479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0"/>
              <p:cNvSpPr txBox="1"/>
              <p:nvPr/>
            </p:nvSpPr>
            <p:spPr>
              <a:xfrm>
                <a:off x="1619280" y="5229360"/>
                <a:ext cx="6224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1"/>
              <p:cNvSpPr txBox="1"/>
              <p:nvPr/>
            </p:nvSpPr>
            <p:spPr>
              <a:xfrm>
                <a:off x="2411280" y="5877000"/>
                <a:ext cx="192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Line 62"/>
          <p:cNvSpPr/>
          <p:nvPr/>
        </p:nvSpPr>
        <p:spPr>
          <a:xfrm>
            <a:off x="1403280" y="551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3"/>
          <p:cNvSpPr/>
          <p:nvPr/>
        </p:nvSpPr>
        <p:spPr>
          <a:xfrm>
            <a:off x="241128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64"/>
              <p:cNvSpPr txBox="1"/>
              <p:nvPr/>
            </p:nvSpPr>
            <p:spPr>
              <a:xfrm>
                <a:off x="1547640" y="5229360"/>
                <a:ext cx="5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5"/>
              <p:cNvSpPr txBox="1"/>
              <p:nvPr/>
            </p:nvSpPr>
            <p:spPr>
              <a:xfrm>
                <a:off x="1187280" y="5373720"/>
                <a:ext cx="195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2"/>
          <p:cNvSpPr/>
          <p:nvPr/>
        </p:nvSpPr>
        <p:spPr>
          <a:xfrm>
            <a:off x="6588000" y="566100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0"/>
          <p:cNvSpPr/>
          <p:nvPr/>
        </p:nvSpPr>
        <p:spPr>
          <a:xfrm>
            <a:off x="6516720" y="5084640"/>
            <a:ext cx="19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4356000" y="5229360"/>
            <a:ext cx="115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5508720" y="1989000"/>
            <a:ext cx="27352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443640" y="3284640"/>
            <a:ext cx="136836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755640" y="2205000"/>
            <a:ext cx="3529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обрат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 формулы  11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1042920" y="2205000"/>
                <a:ext cx="3203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1042920" y="2565360"/>
                <a:ext cx="3313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онотон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8"/>
              <p:cNvSpPr txBox="1"/>
              <p:nvPr/>
            </p:nvSpPr>
            <p:spPr>
              <a:xfrm>
                <a:off x="1042920" y="2924280"/>
                <a:ext cx="3229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5867280" y="2060640"/>
                <a:ext cx="2256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брат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5867280" y="2708280"/>
                <a:ext cx="237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3"/>
              <p:cNvSpPr txBox="1"/>
              <p:nvPr/>
            </p:nvSpPr>
            <p:spPr>
              <a:xfrm>
                <a:off x="6012000" y="3357720"/>
                <a:ext cx="446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sepChr m:val="∃"/>
                        <m:endChr m:val=")"/>
                      </m:dPr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4"/>
              <p:cNvSpPr txBox="1"/>
              <p:nvPr/>
            </p:nvSpPr>
            <p:spPr>
              <a:xfrm>
                <a:off x="6372360" y="3213000"/>
                <a:ext cx="1363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 Box 16"/>
          <p:cNvSpPr/>
          <p:nvPr/>
        </p:nvSpPr>
        <p:spPr>
          <a:xfrm>
            <a:off x="5580000" y="2060640"/>
            <a:ext cx="273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8"/>
          <p:cNvSpPr/>
          <p:nvPr/>
        </p:nvSpPr>
        <p:spPr>
          <a:xfrm>
            <a:off x="4500720" y="263700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0"/>
              <p:cNvSpPr txBox="1"/>
              <p:nvPr/>
            </p:nvSpPr>
            <p:spPr>
              <a:xfrm>
                <a:off x="826920" y="4149720"/>
                <a:ext cx="166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csin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1"/>
              <p:cNvSpPr txBox="1"/>
              <p:nvPr/>
            </p:nvSpPr>
            <p:spPr>
              <a:xfrm>
                <a:off x="1042920" y="4797360"/>
                <a:ext cx="2016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2"/>
              <p:cNvSpPr txBox="1"/>
              <p:nvPr/>
            </p:nvSpPr>
            <p:spPr>
              <a:xfrm>
                <a:off x="1042920" y="5013360"/>
                <a:ext cx="2449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23"/>
              <p:cNvSpPr txBox="1"/>
              <p:nvPr/>
            </p:nvSpPr>
            <p:spPr>
              <a:xfrm>
                <a:off x="1042920" y="5589720"/>
                <a:ext cx="2521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9" name="AutoShape 24"/>
          <p:cNvSpPr/>
          <p:nvPr/>
        </p:nvSpPr>
        <p:spPr>
          <a:xfrm>
            <a:off x="3564000" y="5157720"/>
            <a:ext cx="71280" cy="79236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5"/>
          <p:cNvSpPr/>
          <p:nvPr/>
        </p:nvSpPr>
        <p:spPr>
          <a:xfrm>
            <a:off x="3780000" y="544500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6"/>
              <p:cNvSpPr txBox="1"/>
              <p:nvPr/>
            </p:nvSpPr>
            <p:spPr>
              <a:xfrm>
                <a:off x="4356000" y="5229360"/>
                <a:ext cx="1071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8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9"/>
              <p:cNvSpPr txBox="1"/>
              <p:nvPr/>
            </p:nvSpPr>
            <p:spPr>
              <a:xfrm>
                <a:off x="6516720" y="5084640"/>
                <a:ext cx="194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1"/>
              <p:cNvSpPr txBox="1"/>
              <p:nvPr/>
            </p:nvSpPr>
            <p:spPr>
              <a:xfrm>
                <a:off x="6588000" y="5589720"/>
                <a:ext cx="1800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и, заданные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т,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задана параметричес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дана пара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аме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6"/>
              <p:cNvSpPr txBox="1"/>
              <p:nvPr/>
            </p:nvSpPr>
            <p:spPr>
              <a:xfrm>
                <a:off x="1284120" y="2565360"/>
                <a:ext cx="18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8"/>
              <p:cNvSpPr txBox="1"/>
              <p:nvPr/>
            </p:nvSpPr>
            <p:spPr>
              <a:xfrm>
                <a:off x="826920" y="3645000"/>
                <a:ext cx="201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AutoShape 9"/>
          <p:cNvSpPr/>
          <p:nvPr/>
        </p:nvSpPr>
        <p:spPr>
          <a:xfrm>
            <a:off x="2916360" y="3933720"/>
            <a:ext cx="934920" cy="142920"/>
          </a:xfrm>
          <a:prstGeom prst="rightArrow">
            <a:avLst>
              <a:gd name="adj1" fmla="val 50000"/>
              <a:gd name="adj2" fmla="val 163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3996360" y="3429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1"/>
              <p:cNvSpPr txBox="1"/>
              <p:nvPr/>
            </p:nvSpPr>
            <p:spPr>
              <a:xfrm>
                <a:off x="4284720" y="3429000"/>
                <a:ext cx="2074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Text Box 12"/>
          <p:cNvSpPr/>
          <p:nvPr/>
        </p:nvSpPr>
        <p:spPr>
          <a:xfrm>
            <a:off x="4068000" y="4221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3"/>
              <p:cNvSpPr txBox="1"/>
              <p:nvPr/>
            </p:nvSpPr>
            <p:spPr>
              <a:xfrm>
                <a:off x="4356000" y="4221000"/>
                <a:ext cx="237816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4" name="Text Box 18"/>
          <p:cNvSpPr/>
          <p:nvPr/>
        </p:nvSpPr>
        <p:spPr>
          <a:xfrm>
            <a:off x="7813440" y="2781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3"/>
          <p:cNvGrpSpPr/>
          <p:nvPr/>
        </p:nvGrpSpPr>
        <p:grpSpPr>
          <a:xfrm>
            <a:off x="7093080" y="2781360"/>
            <a:ext cx="1792440" cy="1728720"/>
            <a:chOff x="7093080" y="2781360"/>
            <a:chExt cx="1792440" cy="1728720"/>
          </a:xfrm>
        </p:grpSpPr>
        <p:sp>
          <p:nvSpPr>
            <p:cNvPr id="466" name="Line 14"/>
            <p:cNvSpPr/>
            <p:nvPr/>
          </p:nvSpPr>
          <p:spPr>
            <a:xfrm flipV="1">
              <a:off x="8101080" y="2997360"/>
              <a:ext cx="0" cy="151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"/>
            <p:cNvSpPr/>
            <p:nvPr/>
          </p:nvSpPr>
          <p:spPr>
            <a:xfrm>
              <a:off x="7093080" y="400536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6"/>
            <p:cNvSpPr/>
            <p:nvPr/>
          </p:nvSpPr>
          <p:spPr>
            <a:xfrm>
              <a:off x="7886520" y="400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7"/>
            <p:cNvSpPr/>
            <p:nvPr/>
          </p:nvSpPr>
          <p:spPr>
            <a:xfrm>
              <a:off x="8605800" y="3933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flipV="1">
              <a:off x="7740720" y="2925720"/>
              <a:ext cx="649080" cy="10778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360 h 1077840"/>
                <a:gd name="textAreaBottom" fmla="*/ 1078560 h 1077840"/>
              </a:gdLst>
              <a:ahLst/>
              <a:rect l="textAreaLeft" t="textAreaTop" r="textAreaRight" b="textAreaBottom"/>
              <a:pathLst>
                <a:path fill="none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</a:path>
                <a:path stroke="0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  <a:lnTo>
                    <a:pt x="0" y="21537"/>
                  </a:lnTo>
                  <a:lnTo>
                    <a:pt x="1654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20"/>
            <p:cNvSpPr/>
            <p:nvPr/>
          </p:nvSpPr>
          <p:spPr>
            <a:xfrm flipH="1" flipV="1">
              <a:off x="7235280" y="2923560"/>
              <a:ext cx="649080" cy="1081080"/>
            </a:xfrm>
            <a:custGeom>
              <a:avLst/>
              <a:gdLst>
                <a:gd name="textAreaLeft" fmla="*/ -360 w 649080"/>
                <a:gd name="textAreaRight" fmla="*/ 649080 w 649080"/>
                <a:gd name="textAreaTop" fmla="*/ -36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1"/>
            <p:cNvSpPr/>
            <p:nvPr/>
          </p:nvSpPr>
          <p:spPr>
            <a:xfrm>
              <a:off x="7886520" y="357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2"/>
            <p:cNvSpPr/>
            <p:nvPr/>
          </p:nvSpPr>
          <p:spPr>
            <a:xfrm>
              <a:off x="7597440" y="39337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23"/>
                <p:cNvSpPr txBox="1"/>
                <p:nvPr/>
              </p:nvSpPr>
              <p:spPr>
                <a:xfrm>
                  <a:off x="7308720" y="2781360"/>
                  <a:ext cx="7272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Arc 26"/>
          <p:cNvSpPr/>
          <p:nvPr/>
        </p:nvSpPr>
        <p:spPr>
          <a:xfrm flipH="1" flipV="1">
            <a:off x="6804000" y="4507920"/>
            <a:ext cx="649440" cy="1081080"/>
          </a:xfrm>
          <a:custGeom>
            <a:avLst/>
            <a:gdLst>
              <a:gd name="textAreaLeft" fmla="*/ 360 w 649440"/>
              <a:gd name="textAreaRight" fmla="*/ 650160 w 649440"/>
              <a:gd name="textAreaTop" fmla="*/ -360 h 1081080"/>
              <a:gd name="textAreaBottom" fmla="*/ 1081080 h 108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rc 27"/>
          <p:cNvSpPr/>
          <p:nvPr/>
        </p:nvSpPr>
        <p:spPr>
          <a:xfrm flipV="1">
            <a:off x="7380360" y="4508640"/>
            <a:ext cx="649080" cy="1077840"/>
          </a:xfrm>
          <a:custGeom>
            <a:avLst/>
            <a:gdLst>
              <a:gd name="textAreaLeft" fmla="*/ 0 w 649080"/>
              <a:gd name="textAreaRight" fmla="*/ 649440 w 649080"/>
              <a:gd name="textAreaTop" fmla="*/ 360 h 1077840"/>
              <a:gd name="textAreaBottom" fmla="*/ 1078560 h 1077840"/>
            </a:gdLst>
            <a:ahLst/>
            <a:rect l="textAreaLeft" t="textAreaTop" r="textAreaRight" b="textAreaBottom"/>
            <a:pathLst>
              <a:path fill="none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</a:path>
              <a:path stroke="0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  <a:lnTo>
                  <a:pt x="0" y="21537"/>
                </a:lnTo>
                <a:lnTo>
                  <a:pt x="1654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4"/>
          <p:cNvGrpSpPr/>
          <p:nvPr/>
        </p:nvGrpSpPr>
        <p:grpSpPr>
          <a:xfrm>
            <a:off x="6877080" y="4581360"/>
            <a:ext cx="1792440" cy="1655640"/>
            <a:chOff x="6877080" y="4581360"/>
            <a:chExt cx="1792440" cy="1655640"/>
          </a:xfrm>
        </p:grpSpPr>
        <p:sp>
          <p:nvSpPr>
            <p:cNvPr id="478" name="Line 24"/>
            <p:cNvSpPr/>
            <p:nvPr/>
          </p:nvSpPr>
          <p:spPr>
            <a:xfrm>
              <a:off x="6877080" y="558972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7740720" y="4723920"/>
              <a:ext cx="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8"/>
            <p:cNvSpPr/>
            <p:nvPr/>
          </p:nvSpPr>
          <p:spPr>
            <a:xfrm>
              <a:off x="7309800" y="551664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7526160" y="5157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30"/>
            <p:cNvSpPr/>
            <p:nvPr/>
          </p:nvSpPr>
          <p:spPr>
            <a:xfrm>
              <a:off x="7526160" y="558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1"/>
            <p:cNvSpPr/>
            <p:nvPr/>
          </p:nvSpPr>
          <p:spPr>
            <a:xfrm>
              <a:off x="8389800" y="5516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7452720" y="458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4572000" y="3213000"/>
            <a:ext cx="2232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755640" y="2349360"/>
            <a:ext cx="287964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функции, заданной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476360" y="2421000"/>
                <a:ext cx="20210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476360" y="3152880"/>
                <a:ext cx="206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476360" y="3645000"/>
                <a:ext cx="1871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9"/>
              <p:cNvSpPr txBox="1"/>
              <p:nvPr/>
            </p:nvSpPr>
            <p:spPr>
              <a:xfrm>
                <a:off x="1547640" y="4292640"/>
                <a:ext cx="1908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547640" y="4941720"/>
                <a:ext cx="7923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AutoShape 12"/>
          <p:cNvSpPr/>
          <p:nvPr/>
        </p:nvSpPr>
        <p:spPr>
          <a:xfrm>
            <a:off x="370836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4716360" y="3284640"/>
                <a:ext cx="20685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ϕ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ые высших поряд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произв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го поряд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производной перв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втор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производной  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1979640" y="2060640"/>
                <a:ext cx="1006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"/>
              <p:cNvSpPr txBox="1"/>
              <p:nvPr/>
            </p:nvSpPr>
            <p:spPr>
              <a:xfrm>
                <a:off x="2843280" y="2492280"/>
                <a:ext cx="95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8"/>
              <p:cNvSpPr txBox="1"/>
              <p:nvPr/>
            </p:nvSpPr>
            <p:spPr>
              <a:xfrm>
                <a:off x="1547640" y="3716280"/>
                <a:ext cx="2359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9"/>
              <p:cNvSpPr txBox="1"/>
              <p:nvPr/>
            </p:nvSpPr>
            <p:spPr>
              <a:xfrm>
                <a:off x="1547640" y="5157720"/>
                <a:ext cx="2808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Line 10"/>
          <p:cNvSpPr/>
          <p:nvPr/>
        </p:nvSpPr>
        <p:spPr>
          <a:xfrm>
            <a:off x="4643280" y="3068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056560" y="3211560"/>
            <a:ext cx="9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12"/>
              <p:cNvSpPr txBox="1"/>
              <p:nvPr/>
            </p:nvSpPr>
            <p:spPr>
              <a:xfrm>
                <a:off x="5219640" y="3429000"/>
                <a:ext cx="27208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3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6875640" y="184464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2124000" y="24210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340000" y="299736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2627280" y="350028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72240" y="487044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7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9"/>
              <p:cNvSpPr txBox="1"/>
              <p:nvPr/>
            </p:nvSpPr>
            <p:spPr>
              <a:xfrm>
                <a:off x="2700360" y="148428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1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219640" y="2637000"/>
            <a:ext cx="3384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900000" y="2708280"/>
            <a:ext cx="2087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я              определена в некоторой окрестности точки         (включая точку      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сатель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ямой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к графику функ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чке     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ельное положение секущ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, ког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195640" y="1628640"/>
                <a:ext cx="647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2411280" y="1989000"/>
                <a:ext cx="320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4067280" y="1989000"/>
                <a:ext cx="320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900000" y="2637000"/>
                <a:ext cx="2135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10"/>
          <p:cNvSpPr/>
          <p:nvPr/>
        </p:nvSpPr>
        <p:spPr>
          <a:xfrm>
            <a:off x="5271840" y="2657520"/>
            <a:ext cx="331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  назыв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 отноше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я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ю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е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6948360" y="2637000"/>
                <a:ext cx="50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AutoShape 12"/>
          <p:cNvSpPr/>
          <p:nvPr/>
        </p:nvSpPr>
        <p:spPr>
          <a:xfrm>
            <a:off x="3419640" y="2997360"/>
            <a:ext cx="1584000" cy="215640"/>
          </a:xfrm>
          <a:prstGeom prst="leftArrow">
            <a:avLst>
              <a:gd name="adj1" fmla="val 50000"/>
              <a:gd name="adj2" fmla="val 183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900000" y="4149720"/>
                <a:ext cx="1090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4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5"/>
              <p:cNvSpPr txBox="1"/>
              <p:nvPr/>
            </p:nvSpPr>
            <p:spPr>
              <a:xfrm>
                <a:off x="2627280" y="4149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6"/>
              <p:cNvSpPr txBox="1"/>
              <p:nvPr/>
            </p:nvSpPr>
            <p:spPr>
              <a:xfrm>
                <a:off x="2771640" y="4437000"/>
                <a:ext cx="648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3924360" y="4437000"/>
                <a:ext cx="1008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860544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868360" y="361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941800" y="551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 flipV="1">
            <a:off x="6372360" y="3644640"/>
            <a:ext cx="93636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2"/>
          <p:cNvSpPr/>
          <p:nvPr/>
        </p:nvSpPr>
        <p:spPr>
          <a:xfrm>
            <a:off x="6659640" y="4797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 flipV="1">
            <a:off x="7524720" y="40759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10880" y="3860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5"/>
          <p:cNvSpPr/>
          <p:nvPr/>
        </p:nvSpPr>
        <p:spPr>
          <a:xfrm flipV="1">
            <a:off x="7885080" y="4075920"/>
            <a:ext cx="7164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7814160" y="378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7"/>
              <p:cNvSpPr txBox="1"/>
              <p:nvPr/>
            </p:nvSpPr>
            <p:spPr>
              <a:xfrm>
                <a:off x="6443640" y="450864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Line 28"/>
          <p:cNvSpPr/>
          <p:nvPr/>
        </p:nvSpPr>
        <p:spPr>
          <a:xfrm flipV="1">
            <a:off x="6156360" y="3716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5219640" y="551664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0"/>
          <p:cNvSpPr/>
          <p:nvPr/>
        </p:nvSpPr>
        <p:spPr>
          <a:xfrm flipH="1" flipV="1" rot="6492600">
            <a:off x="6671160" y="4065480"/>
            <a:ext cx="1435320" cy="1171440"/>
          </a:xfrm>
          <a:custGeom>
            <a:avLst/>
            <a:gdLst>
              <a:gd name="textAreaLeft" fmla="*/ -360 w 1435320"/>
              <a:gd name="textAreaRight" fmla="*/ 1435320 w 143532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 flipV="1">
            <a:off x="5292720" y="3860280"/>
            <a:ext cx="3024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6732720" y="4797360"/>
            <a:ext cx="0" cy="71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 flipH="1">
            <a:off x="6156000" y="479736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4"/>
              <p:cNvSpPr txBox="1"/>
              <p:nvPr/>
            </p:nvSpPr>
            <p:spPr>
              <a:xfrm>
                <a:off x="6588000" y="544500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5"/>
              <p:cNvSpPr txBox="1"/>
              <p:nvPr/>
            </p:nvSpPr>
            <p:spPr>
              <a:xfrm>
                <a:off x="5867280" y="450864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Text Box 36"/>
          <p:cNvSpPr/>
          <p:nvPr/>
        </p:nvSpPr>
        <p:spPr>
          <a:xfrm>
            <a:off x="6949800" y="3645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7"/>
          <p:cNvSpPr/>
          <p:nvPr/>
        </p:nvSpPr>
        <p:spPr>
          <a:xfrm flipV="1">
            <a:off x="5724360" y="3716280"/>
            <a:ext cx="230364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8"/>
              <p:cNvSpPr txBox="1"/>
              <p:nvPr/>
            </p:nvSpPr>
            <p:spPr>
              <a:xfrm>
                <a:off x="8101080" y="407664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6"/>
          <p:cNvSpPr/>
          <p:nvPr/>
        </p:nvSpPr>
        <p:spPr>
          <a:xfrm>
            <a:off x="971640" y="4724280"/>
            <a:ext cx="3671640" cy="122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5076720" y="4869000"/>
            <a:ext cx="2232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3"/>
              <p:cNvSpPr txBox="1"/>
              <p:nvPr/>
            </p:nvSpPr>
            <p:spPr>
              <a:xfrm>
                <a:off x="3492360" y="4149720"/>
                <a:ext cx="1081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Line 5"/>
          <p:cNvSpPr/>
          <p:nvPr/>
        </p:nvSpPr>
        <p:spPr>
          <a:xfrm flipH="1" flipV="1">
            <a:off x="1835280" y="1988640"/>
            <a:ext cx="144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900000" y="4221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"/>
          <p:cNvSpPr/>
          <p:nvPr/>
        </p:nvSpPr>
        <p:spPr>
          <a:xfrm flipH="1" flipV="1" rot="5400000">
            <a:off x="2426400" y="2518560"/>
            <a:ext cx="1393920" cy="1579680"/>
          </a:xfrm>
          <a:custGeom>
            <a:avLst/>
            <a:gdLst>
              <a:gd name="textAreaLeft" fmla="*/ 360 w 1393920"/>
              <a:gd name="textAreaRight" fmla="*/ 1394640 w 1393920"/>
              <a:gd name="textAreaTop" fmla="*/ 360 h 1579680"/>
              <a:gd name="textAreaBottom" fmla="*/ 1580400 h 1579680"/>
            </a:gdLst>
            <a:ahLst/>
            <a:rect l="textAreaLeft" t="textAreaTop" r="textAreaRight" b="textAreaBottom"/>
            <a:pathLst>
              <a:path fill="none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</a:path>
              <a:path stroke="0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  <a:lnTo>
                  <a:pt x="0" y="21525"/>
                </a:lnTo>
                <a:lnTo>
                  <a:pt x="179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187280" y="2349000"/>
            <a:ext cx="2808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1692360" y="2276640"/>
            <a:ext cx="180000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241128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3635280" y="263700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2411280" y="3500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2124000" y="314172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Text Box 18"/>
          <p:cNvSpPr/>
          <p:nvPr/>
        </p:nvSpPr>
        <p:spPr>
          <a:xfrm>
            <a:off x="3494520" y="234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918520" y="24210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 flipV="1">
            <a:off x="3635280" y="2564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1"/>
          <p:cNvSpPr/>
          <p:nvPr/>
        </p:nvSpPr>
        <p:spPr>
          <a:xfrm>
            <a:off x="2987640" y="2708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 flipH="1">
            <a:off x="1835280" y="357336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268360" y="414972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4"/>
              <p:cNvSpPr txBox="1"/>
              <p:nvPr/>
            </p:nvSpPr>
            <p:spPr>
              <a:xfrm>
                <a:off x="1547640" y="3500280"/>
                <a:ext cx="2858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Oval 25"/>
          <p:cNvSpPr/>
          <p:nvPr/>
        </p:nvSpPr>
        <p:spPr>
          <a:xfrm>
            <a:off x="234000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2124000" y="2349000"/>
            <a:ext cx="71928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2557440" y="2276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059280" y="270828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"/>
          <p:cNvSpPr/>
          <p:nvPr/>
        </p:nvSpPr>
        <p:spPr>
          <a:xfrm flipV="1" rot="16200000">
            <a:off x="2699280" y="393192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21600 h 648000"/>
              <a:gd name="textAreaBottom" fmla="*/ 6264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8"/>
                  <a:pt x="10800" y="2315"/>
                </a:cubicBezTo>
                <a:lnTo>
                  <a:pt x="10800" y="8644"/>
                </a:lnTo>
                <a:cubicBezTo>
                  <a:pt x="10800" y="9802"/>
                  <a:pt x="5400" y="10959"/>
                  <a:pt x="0" y="10959"/>
                </a:cubicBezTo>
                <a:cubicBezTo>
                  <a:pt x="5400" y="10959"/>
                  <a:pt x="10800" y="12117"/>
                  <a:pt x="10800" y="13274"/>
                </a:cubicBezTo>
                <a:lnTo>
                  <a:pt x="10800" y="19285"/>
                </a:lnTo>
                <a:cubicBezTo>
                  <a:pt x="10800" y="2044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1"/>
          <p:cNvSpPr/>
          <p:nvPr/>
        </p:nvSpPr>
        <p:spPr>
          <a:xfrm flipV="1" rot="16200000">
            <a:off x="2950920" y="35359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9960 h 1224000"/>
              <a:gd name="textAreaBottom" fmla="*/ 11840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826"/>
                </a:lnTo>
                <a:cubicBezTo>
                  <a:pt x="10800" y="9957"/>
                  <a:pt x="16200" y="11087"/>
                  <a:pt x="21600" y="11087"/>
                </a:cubicBezTo>
                <a:cubicBezTo>
                  <a:pt x="16200" y="11087"/>
                  <a:pt x="10800" y="12218"/>
                  <a:pt x="10800" y="13348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2"/>
              <p:cNvSpPr txBox="1"/>
              <p:nvPr/>
            </p:nvSpPr>
            <p:spPr>
              <a:xfrm>
                <a:off x="3059280" y="3789360"/>
                <a:ext cx="369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3"/>
              <p:cNvSpPr txBox="1"/>
              <p:nvPr/>
            </p:nvSpPr>
            <p:spPr>
              <a:xfrm>
                <a:off x="2627280" y="4221000"/>
                <a:ext cx="370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4"/>
              <p:cNvSpPr txBox="1"/>
              <p:nvPr/>
            </p:nvSpPr>
            <p:spPr>
              <a:xfrm>
                <a:off x="3851280" y="256536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Line 35"/>
          <p:cNvSpPr/>
          <p:nvPr/>
        </p:nvSpPr>
        <p:spPr>
          <a:xfrm flipH="1">
            <a:off x="1835280" y="2637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8"/>
              <p:cNvSpPr txBox="1"/>
              <p:nvPr/>
            </p:nvSpPr>
            <p:spPr>
              <a:xfrm>
                <a:off x="684360" y="2349360"/>
                <a:ext cx="1116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9"/>
              <p:cNvSpPr txBox="1"/>
              <p:nvPr/>
            </p:nvSpPr>
            <p:spPr>
              <a:xfrm>
                <a:off x="1332000" y="29242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AutoShape 40"/>
          <p:cNvSpPr/>
          <p:nvPr/>
        </p:nvSpPr>
        <p:spPr>
          <a:xfrm>
            <a:off x="1692360" y="263700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42"/>
          <p:cNvSpPr/>
          <p:nvPr/>
        </p:nvSpPr>
        <p:spPr>
          <a:xfrm>
            <a:off x="2700360" y="3284640"/>
            <a:ext cx="71280" cy="261720"/>
          </a:xfrm>
          <a:custGeom>
            <a:avLst/>
            <a:gdLst>
              <a:gd name="textAreaLeft" fmla="*/ 0 w 71280"/>
              <a:gd name="textAreaRight" fmla="*/ 71640 w 7128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fill="none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</a:path>
              <a:path stroke="0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43"/>
          <p:cNvSpPr/>
          <p:nvPr/>
        </p:nvSpPr>
        <p:spPr>
          <a:xfrm rot="21128400">
            <a:off x="2700360" y="3068640"/>
            <a:ext cx="287280" cy="552600"/>
          </a:xfrm>
          <a:custGeom>
            <a:avLst/>
            <a:gdLst>
              <a:gd name="textAreaLeft" fmla="*/ 0 w 287280"/>
              <a:gd name="textAreaRight" fmla="*/ 287640 w 287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</a:path>
              <a:path stroke="0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  <a:lnTo>
                  <a:pt x="0" y="18655"/>
                </a:lnTo>
                <a:lnTo>
                  <a:pt x="10888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44"/>
          <p:cNvSpPr/>
          <p:nvPr/>
        </p:nvSpPr>
        <p:spPr>
          <a:xfrm>
            <a:off x="2411280" y="3429000"/>
            <a:ext cx="81000" cy="287280"/>
          </a:xfrm>
          <a:custGeom>
            <a:avLst/>
            <a:gdLst>
              <a:gd name="textAreaLeft" fmla="*/ 0 w 81000"/>
              <a:gd name="textAreaRight" fmla="*/ 81000 w 81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</a:path>
              <a:path stroke="0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5"/>
              <p:cNvSpPr txBox="1"/>
              <p:nvPr/>
            </p:nvSpPr>
            <p:spPr>
              <a:xfrm>
                <a:off x="2411280" y="3573360"/>
                <a:ext cx="2016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7"/>
              <p:cNvSpPr txBox="1"/>
              <p:nvPr/>
            </p:nvSpPr>
            <p:spPr>
              <a:xfrm>
                <a:off x="2771640" y="321300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8"/>
              <p:cNvSpPr txBox="1"/>
              <p:nvPr/>
            </p:nvSpPr>
            <p:spPr>
              <a:xfrm>
                <a:off x="6012000" y="3068640"/>
                <a:ext cx="111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t xml:space="preserve">∠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9"/>
              <p:cNvSpPr txBox="1"/>
              <p:nvPr/>
            </p:nvSpPr>
            <p:spPr>
              <a:xfrm>
                <a:off x="5219640" y="2708280"/>
                <a:ext cx="1944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AutoShape 50"/>
          <p:cNvSpPr/>
          <p:nvPr/>
        </p:nvSpPr>
        <p:spPr>
          <a:xfrm>
            <a:off x="5292720" y="314172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1"/>
              <p:cNvSpPr txBox="1"/>
              <p:nvPr/>
            </p:nvSpPr>
            <p:spPr>
              <a:xfrm>
                <a:off x="6084720" y="3429000"/>
                <a:ext cx="111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AutoShape 52"/>
          <p:cNvSpPr/>
          <p:nvPr/>
        </p:nvSpPr>
        <p:spPr>
          <a:xfrm>
            <a:off x="5364000" y="350028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3"/>
              <p:cNvSpPr txBox="1"/>
              <p:nvPr/>
            </p:nvSpPr>
            <p:spPr>
              <a:xfrm>
                <a:off x="5580000" y="3933720"/>
                <a:ext cx="1668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Line 54"/>
          <p:cNvSpPr/>
          <p:nvPr/>
        </p:nvSpPr>
        <p:spPr>
          <a:xfrm>
            <a:off x="630072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5"/>
          <p:cNvSpPr/>
          <p:nvPr/>
        </p:nvSpPr>
        <p:spPr>
          <a:xfrm>
            <a:off x="637236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6"/>
          <p:cNvSpPr/>
          <p:nvPr/>
        </p:nvSpPr>
        <p:spPr>
          <a:xfrm>
            <a:off x="694836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7"/>
          <p:cNvSpPr/>
          <p:nvPr/>
        </p:nvSpPr>
        <p:spPr>
          <a:xfrm>
            <a:off x="702000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8"/>
              <p:cNvSpPr txBox="1"/>
              <p:nvPr/>
            </p:nvSpPr>
            <p:spPr>
              <a:xfrm>
                <a:off x="5076720" y="4869000"/>
                <a:ext cx="2235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AutoShape 60"/>
          <p:cNvSpPr/>
          <p:nvPr/>
        </p:nvSpPr>
        <p:spPr>
          <a:xfrm>
            <a:off x="6227640" y="4581360"/>
            <a:ext cx="216000" cy="287640"/>
          </a:xfrm>
          <a:prstGeom prst="downArrow">
            <a:avLst>
              <a:gd name="adj1" fmla="val 50000"/>
              <a:gd name="adj2" fmla="val 33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"/>
          <p:cNvSpPr/>
          <p:nvPr/>
        </p:nvSpPr>
        <p:spPr>
          <a:xfrm>
            <a:off x="1041120" y="4710240"/>
            <a:ext cx="3593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гловому коэффициенту касате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рафику этой функции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2"/>
              <p:cNvSpPr txBox="1"/>
              <p:nvPr/>
            </p:nvSpPr>
            <p:spPr>
              <a:xfrm>
                <a:off x="3419640" y="4797360"/>
                <a:ext cx="431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3"/>
              <p:cNvSpPr txBox="1"/>
              <p:nvPr/>
            </p:nvSpPr>
            <p:spPr>
              <a:xfrm>
                <a:off x="4356000" y="479736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4"/>
              <p:cNvSpPr txBox="1"/>
              <p:nvPr/>
            </p:nvSpPr>
            <p:spPr>
              <a:xfrm>
                <a:off x="3419640" y="5300640"/>
                <a:ext cx="1008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5"/>
              <p:cNvSpPr txBox="1"/>
              <p:nvPr/>
            </p:nvSpPr>
            <p:spPr>
              <a:xfrm>
                <a:off x="1403280" y="5589720"/>
                <a:ext cx="9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AutoShape 67"/>
          <p:cNvSpPr/>
          <p:nvPr/>
        </p:nvSpPr>
        <p:spPr>
          <a:xfrm>
            <a:off x="4643280" y="515772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8"/>
          <p:cNvSpPr/>
          <p:nvPr/>
        </p:nvSpPr>
        <p:spPr>
          <a:xfrm>
            <a:off x="4500720" y="2852640"/>
            <a:ext cx="502920" cy="71640"/>
          </a:xfrm>
          <a:prstGeom prst="rightArrow">
            <a:avLst>
              <a:gd name="adj1" fmla="val 50000"/>
              <a:gd name="adj2" fmla="val 175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183636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ль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графику функции                    в точ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роходящая через 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пендикулярн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ательн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нормали 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2771640" y="256536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826920" y="256536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3"/>
          <p:cNvSpPr/>
          <p:nvPr/>
        </p:nvSpPr>
        <p:spPr>
          <a:xfrm>
            <a:off x="4500720" y="5877000"/>
            <a:ext cx="2808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0"/>
          <p:cNvSpPr/>
          <p:nvPr/>
        </p:nvSpPr>
        <p:spPr>
          <a:xfrm>
            <a:off x="826920" y="5877000"/>
            <a:ext cx="280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8"/>
          <p:cNvSpPr/>
          <p:nvPr/>
        </p:nvSpPr>
        <p:spPr>
          <a:xfrm>
            <a:off x="2556000" y="3429000"/>
            <a:ext cx="2881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6012000" y="3573360"/>
            <a:ext cx="20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4067280" y="4292640"/>
                <a:ext cx="9363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867280" y="429264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8675640" y="3213000"/>
                <a:ext cx="2462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948360" y="3141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5651640" y="4581360"/>
                <a:ext cx="86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11"/>
          <p:cNvSpPr/>
          <p:nvPr/>
        </p:nvSpPr>
        <p:spPr>
          <a:xfrm>
            <a:off x="4860720" y="479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V="1">
            <a:off x="6229440" y="1412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5292720" y="3213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7"/>
          <p:cNvSpPr/>
          <p:nvPr/>
        </p:nvSpPr>
        <p:spPr>
          <a:xfrm flipH="1" flipV="1" rot="6492600">
            <a:off x="6744240" y="1761840"/>
            <a:ext cx="1434960" cy="1171440"/>
          </a:xfrm>
          <a:custGeom>
            <a:avLst/>
            <a:gdLst>
              <a:gd name="textAreaLeft" fmla="*/ 0 w 1434960"/>
              <a:gd name="textAreaRight" fmla="*/ 1434960 w 143496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7093080" y="2133720"/>
            <a:ext cx="0" cy="107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6012000" y="1197000"/>
            <a:ext cx="194472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7020000" y="21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H="1">
            <a:off x="6227640" y="2133720"/>
            <a:ext cx="865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22"/>
          <p:cNvSpPr/>
          <p:nvPr/>
        </p:nvSpPr>
        <p:spPr>
          <a:xfrm>
            <a:off x="6300720" y="292428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6443640" y="141300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24"/>
          <p:cNvSpPr/>
          <p:nvPr/>
        </p:nvSpPr>
        <p:spPr>
          <a:xfrm flipH="1" flipV="1">
            <a:off x="6443640" y="1628640"/>
            <a:ext cx="144144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5"/>
              <p:cNvSpPr txBox="1"/>
              <p:nvPr/>
            </p:nvSpPr>
            <p:spPr>
              <a:xfrm>
                <a:off x="7451640" y="1125360"/>
                <a:ext cx="5050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8"/>
              <p:cNvSpPr txBox="1"/>
              <p:nvPr/>
            </p:nvSpPr>
            <p:spPr>
              <a:xfrm>
                <a:off x="4521240" y="3346560"/>
                <a:ext cx="404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9"/>
              <p:cNvSpPr txBox="1"/>
              <p:nvPr/>
            </p:nvSpPr>
            <p:spPr>
              <a:xfrm>
                <a:off x="5940360" y="191628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Line 30"/>
          <p:cNvSpPr/>
          <p:nvPr/>
        </p:nvSpPr>
        <p:spPr>
          <a:xfrm flipV="1">
            <a:off x="6948360" y="198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>
            <a:off x="7020000" y="198900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2"/>
              <p:cNvSpPr txBox="1"/>
              <p:nvPr/>
            </p:nvSpPr>
            <p:spPr>
              <a:xfrm>
                <a:off x="6012000" y="1341360"/>
                <a:ext cx="250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Text Box 33"/>
          <p:cNvSpPr/>
          <p:nvPr/>
        </p:nvSpPr>
        <p:spPr>
          <a:xfrm>
            <a:off x="6228720" y="321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4"/>
              <p:cNvSpPr txBox="1"/>
              <p:nvPr/>
            </p:nvSpPr>
            <p:spPr>
              <a:xfrm>
                <a:off x="7596360" y="148428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5"/>
              <p:cNvSpPr txBox="1"/>
              <p:nvPr/>
            </p:nvSpPr>
            <p:spPr>
              <a:xfrm>
                <a:off x="6443640" y="29242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6"/>
              <p:cNvSpPr txBox="1"/>
              <p:nvPr/>
            </p:nvSpPr>
            <p:spPr>
              <a:xfrm>
                <a:off x="7164360" y="2060640"/>
                <a:ext cx="720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7"/>
              <p:cNvSpPr txBox="1"/>
              <p:nvPr/>
            </p:nvSpPr>
            <p:spPr>
              <a:xfrm>
                <a:off x="900000" y="2565360"/>
                <a:ext cx="1224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AutoShape 40"/>
          <p:cNvSpPr/>
          <p:nvPr/>
        </p:nvSpPr>
        <p:spPr>
          <a:xfrm>
            <a:off x="2195640" y="270828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2771640" y="2565360"/>
                <a:ext cx="2592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4"/>
              <p:cNvSpPr txBox="1"/>
              <p:nvPr/>
            </p:nvSpPr>
            <p:spPr>
              <a:xfrm>
                <a:off x="6012000" y="3500280"/>
                <a:ext cx="2089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47"/>
              <p:cNvSpPr txBox="1"/>
              <p:nvPr/>
            </p:nvSpPr>
            <p:spPr>
              <a:xfrm>
                <a:off x="2556000" y="3429000"/>
                <a:ext cx="2879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9"/>
              <p:cNvSpPr txBox="1"/>
              <p:nvPr/>
            </p:nvSpPr>
            <p:spPr>
              <a:xfrm>
                <a:off x="826920" y="5805360"/>
                <a:ext cx="2808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AutoShape 51"/>
          <p:cNvSpPr/>
          <p:nvPr/>
        </p:nvSpPr>
        <p:spPr>
          <a:xfrm>
            <a:off x="3780000" y="6165720"/>
            <a:ext cx="576000" cy="71640"/>
          </a:xfrm>
          <a:prstGeom prst="rightArrow">
            <a:avLst>
              <a:gd name="adj1" fmla="val 50000"/>
              <a:gd name="adj2" fmla="val 201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2"/>
              <p:cNvSpPr txBox="1"/>
              <p:nvPr/>
            </p:nvSpPr>
            <p:spPr>
              <a:xfrm>
                <a:off x="4500720" y="5805360"/>
                <a:ext cx="28238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AutoShape 54"/>
          <p:cNvSpPr/>
          <p:nvPr/>
        </p:nvSpPr>
        <p:spPr>
          <a:xfrm>
            <a:off x="5651640" y="3573360"/>
            <a:ext cx="215640" cy="322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2200"/>
              <a:gd name="textAreaBottom" fmla="*/ 308520 h 322200"/>
            </a:gdLst>
            <a:ahLst/>
            <a:rect l="textAreaLeft" t="textAreaTop" r="textAreaRight" b="textAreaBottom"/>
            <a:pathLst>
              <a:path w="21600" h="32256">
                <a:moveTo>
                  <a:pt x="0" y="0"/>
                </a:moveTo>
                <a:lnTo>
                  <a:pt x="21600" y="0"/>
                </a:lnTo>
                <a:lnTo>
                  <a:pt x="21600" y="32256"/>
                </a:lnTo>
                <a:lnTo>
                  <a:pt x="0" y="32256"/>
                </a:lnTo>
                <a:close/>
              </a:path>
              <a:path fill="lightenLess" w="21600" h="32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56">
                <a:moveTo>
                  <a:pt x="21600" y="0"/>
                </a:moveTo>
                <a:lnTo>
                  <a:pt x="21600" y="32256"/>
                </a:lnTo>
                <a:lnTo>
                  <a:pt x="20200" y="30856"/>
                </a:lnTo>
                <a:lnTo>
                  <a:pt x="20200" y="1400"/>
                </a:lnTo>
                <a:close/>
              </a:path>
              <a:path fill="darkenLess" w="21600" h="32256">
                <a:moveTo>
                  <a:pt x="21600" y="32256"/>
                </a:moveTo>
                <a:lnTo>
                  <a:pt x="0" y="32256"/>
                </a:lnTo>
                <a:lnTo>
                  <a:pt x="1400" y="30856"/>
                </a:lnTo>
                <a:lnTo>
                  <a:pt x="20200" y="30856"/>
                </a:lnTo>
                <a:close/>
              </a:path>
              <a:path fill="lighten" w="21600" h="32256">
                <a:moveTo>
                  <a:pt x="0" y="32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56"/>
                </a:lnTo>
                <a:close/>
              </a:path>
              <a:path fill="darken" w="21600" h="32256">
                <a:moveTo>
                  <a:pt x="10800" y="2013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256">
                <a:moveTo>
                  <a:pt x="11905" y="19609"/>
                </a:moveTo>
                <a:lnTo>
                  <a:pt x="11905" y="17651"/>
                </a:lnTo>
                <a:cubicBezTo>
                  <a:pt x="11905" y="16824"/>
                  <a:pt x="12236" y="16128"/>
                  <a:pt x="12837" y="16128"/>
                </a:cubicBezTo>
                <a:cubicBezTo>
                  <a:pt x="13968" y="16128"/>
                  <a:pt x="14865" y="14762"/>
                  <a:pt x="14865" y="13177"/>
                </a:cubicBezTo>
                <a:cubicBezTo>
                  <a:pt x="14865" y="10862"/>
                  <a:pt x="13011" y="9122"/>
                  <a:pt x="10800" y="9122"/>
                </a:cubicBezTo>
                <a:cubicBezTo>
                  <a:pt x="8589" y="9122"/>
                  <a:pt x="6918" y="10862"/>
                  <a:pt x="6918" y="13177"/>
                </a:cubicBezTo>
                <a:lnTo>
                  <a:pt x="8772" y="13177"/>
                </a:lnTo>
                <a:cubicBezTo>
                  <a:pt x="8772" y="12037"/>
                  <a:pt x="9695" y="11149"/>
                  <a:pt x="10800" y="11149"/>
                </a:cubicBezTo>
                <a:cubicBezTo>
                  <a:pt x="11905" y="11149"/>
                  <a:pt x="12837" y="12037"/>
                  <a:pt x="12837" y="13177"/>
                </a:cubicBezTo>
                <a:cubicBezTo>
                  <a:pt x="12837" y="13917"/>
                  <a:pt x="12367" y="14648"/>
                  <a:pt x="11905" y="14648"/>
                </a:cubicBezTo>
                <a:cubicBezTo>
                  <a:pt x="10800" y="14648"/>
                  <a:pt x="9695" y="16128"/>
                  <a:pt x="9695" y="17651"/>
                </a:cubicBezTo>
                <a:lnTo>
                  <a:pt x="9695" y="1960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3924360" y="2997360"/>
            <a:ext cx="288720" cy="43020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а дифференц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332000" y="1844640"/>
                <a:ext cx="178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1042920" y="2492280"/>
                <a:ext cx="2881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1042920" y="2781360"/>
                <a:ext cx="36972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9"/>
              <p:cNvSpPr txBox="1"/>
              <p:nvPr/>
            </p:nvSpPr>
            <p:spPr>
              <a:xfrm>
                <a:off x="1116000" y="3068640"/>
                <a:ext cx="19954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1039680" y="3141720"/>
                <a:ext cx="4577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Line 11"/>
          <p:cNvSpPr/>
          <p:nvPr/>
        </p:nvSpPr>
        <p:spPr>
          <a:xfrm>
            <a:off x="5867280" y="2421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6013080" y="2271600"/>
            <a:ext cx="301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 1 правил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для суммы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6516720" y="2708280"/>
                <a:ext cx="1584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Δ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4"/>
              <p:cNvSpPr txBox="1"/>
              <p:nvPr/>
            </p:nvSpPr>
            <p:spPr>
              <a:xfrm>
                <a:off x="6516720" y="2997360"/>
                <a:ext cx="1511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Δg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5"/>
              <p:cNvSpPr txBox="1"/>
              <p:nvPr/>
            </p:nvSpPr>
            <p:spPr>
              <a:xfrm>
                <a:off x="6156360" y="3500280"/>
                <a:ext cx="2581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g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6"/>
              <p:cNvSpPr txBox="1"/>
              <p:nvPr/>
            </p:nvSpPr>
            <p:spPr>
              <a:xfrm>
                <a:off x="6156360" y="3645000"/>
                <a:ext cx="2217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ть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производных основных элементарных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1476360" y="2060640"/>
                <a:ext cx="6811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476360" y="2276640"/>
                <a:ext cx="12240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1476360" y="2565360"/>
                <a:ext cx="116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1476360" y="2781360"/>
                <a:ext cx="934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1547640" y="2997360"/>
                <a:ext cx="1441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4"/>
              <p:cNvSpPr txBox="1"/>
              <p:nvPr/>
            </p:nvSpPr>
            <p:spPr>
              <a:xfrm>
                <a:off x="1547640" y="3357720"/>
                <a:ext cx="935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Line 15"/>
          <p:cNvSpPr/>
          <p:nvPr/>
        </p:nvSpPr>
        <p:spPr>
          <a:xfrm>
            <a:off x="1258920" y="3933720"/>
            <a:ext cx="38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6"/>
              <p:cNvSpPr txBox="1"/>
              <p:nvPr/>
            </p:nvSpPr>
            <p:spPr>
              <a:xfrm>
                <a:off x="1463760" y="4032360"/>
                <a:ext cx="13078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7"/>
              <p:cNvSpPr txBox="1"/>
              <p:nvPr/>
            </p:nvSpPr>
            <p:spPr>
              <a:xfrm>
                <a:off x="1476360" y="4292640"/>
                <a:ext cx="1440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8"/>
              <p:cNvSpPr txBox="1"/>
              <p:nvPr/>
            </p:nvSpPr>
            <p:spPr>
              <a:xfrm>
                <a:off x="1547640" y="4437000"/>
                <a:ext cx="1338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9"/>
              <p:cNvSpPr txBox="1"/>
              <p:nvPr/>
            </p:nvSpPr>
            <p:spPr>
              <a:xfrm>
                <a:off x="1547640" y="4941720"/>
                <a:ext cx="1544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0"/>
              <p:cNvSpPr txBox="1"/>
              <p:nvPr/>
            </p:nvSpPr>
            <p:spPr>
              <a:xfrm>
                <a:off x="3203640" y="2133720"/>
                <a:ext cx="576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1"/>
              <p:cNvSpPr txBox="1"/>
              <p:nvPr/>
            </p:nvSpPr>
            <p:spPr>
              <a:xfrm>
                <a:off x="3203640" y="2349360"/>
                <a:ext cx="72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3203640" y="2565360"/>
                <a:ext cx="86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 flipV="1">
            <a:off x="2771640" y="2276280"/>
            <a:ext cx="43200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2771640" y="24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2771640" y="24922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408920" y="3798720"/>
            <a:ext cx="394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7"/>
              <p:cNvSpPr txBox="1"/>
              <p:nvPr/>
            </p:nvSpPr>
            <p:spPr>
              <a:xfrm>
                <a:off x="4788000" y="3933720"/>
                <a:ext cx="1728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8"/>
              <p:cNvSpPr txBox="1"/>
              <p:nvPr/>
            </p:nvSpPr>
            <p:spPr>
              <a:xfrm>
                <a:off x="4788000" y="4508640"/>
                <a:ext cx="19033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9"/>
              <p:cNvSpPr txBox="1"/>
              <p:nvPr/>
            </p:nvSpPr>
            <p:spPr>
              <a:xfrm>
                <a:off x="4788000" y="5084640"/>
                <a:ext cx="1584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0"/>
              <p:cNvSpPr txBox="1"/>
              <p:nvPr/>
            </p:nvSpPr>
            <p:spPr>
              <a:xfrm>
                <a:off x="4788000" y="5589720"/>
                <a:ext cx="1822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22"/>
          <p:cNvSpPr/>
          <p:nvPr/>
        </p:nvSpPr>
        <p:spPr>
          <a:xfrm rot="5729400">
            <a:off x="5107680" y="4332960"/>
            <a:ext cx="492120" cy="411120"/>
          </a:xfrm>
          <a:custGeom>
            <a:avLst/>
            <a:gdLst>
              <a:gd name="textAreaLeft" fmla="*/ 0 w 492120"/>
              <a:gd name="textAreaRight" fmla="*/ 492480 w 4921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10" h="259">
                <a:moveTo>
                  <a:pt x="303" y="58"/>
                </a:moveTo>
                <a:cubicBezTo>
                  <a:pt x="296" y="41"/>
                  <a:pt x="291" y="9"/>
                  <a:pt x="265" y="6"/>
                </a:cubicBezTo>
                <a:cubicBezTo>
                  <a:pt x="206" y="0"/>
                  <a:pt x="103" y="24"/>
                  <a:pt x="48" y="51"/>
                </a:cubicBezTo>
                <a:cubicBezTo>
                  <a:pt x="11" y="107"/>
                  <a:pt x="0" y="144"/>
                  <a:pt x="63" y="193"/>
                </a:cubicBezTo>
                <a:cubicBezTo>
                  <a:pt x="73" y="201"/>
                  <a:pt x="115" y="227"/>
                  <a:pt x="131" y="238"/>
                </a:cubicBezTo>
                <a:cubicBezTo>
                  <a:pt x="138" y="243"/>
                  <a:pt x="153" y="253"/>
                  <a:pt x="153" y="253"/>
                </a:cubicBezTo>
                <a:cubicBezTo>
                  <a:pt x="196" y="247"/>
                  <a:pt x="255" y="259"/>
                  <a:pt x="280" y="223"/>
                </a:cubicBezTo>
                <a:cubicBezTo>
                  <a:pt x="293" y="205"/>
                  <a:pt x="310" y="163"/>
                  <a:pt x="310" y="163"/>
                </a:cubicBezTo>
                <a:cubicBezTo>
                  <a:pt x="305" y="141"/>
                  <a:pt x="297" y="119"/>
                  <a:pt x="295" y="96"/>
                </a:cubicBezTo>
                <a:cubicBezTo>
                  <a:pt x="292" y="56"/>
                  <a:pt x="310" y="77"/>
                  <a:pt x="310" y="43"/>
                </a:cubicBezTo>
                <a:cubicBezTo>
                  <a:pt x="310" y="37"/>
                  <a:pt x="305" y="53"/>
                  <a:pt x="303" y="5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формулы 7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411280" y="162864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1042920" y="1989000"/>
                <a:ext cx="2376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1116000" y="2276640"/>
                <a:ext cx="28274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042920" y="3141720"/>
                <a:ext cx="39686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1476360" y="458136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11"/>
          <p:cNvSpPr/>
          <p:nvPr/>
        </p:nvSpPr>
        <p:spPr>
          <a:xfrm>
            <a:off x="1547640" y="43657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1619280" y="4365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262728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 flipH="1">
            <a:off x="270036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"/>
          <p:cNvSpPr/>
          <p:nvPr/>
        </p:nvSpPr>
        <p:spPr>
          <a:xfrm rot="7033200">
            <a:off x="3778920" y="3429720"/>
            <a:ext cx="1368360" cy="1224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227" h="868">
                <a:moveTo>
                  <a:pt x="748" y="67"/>
                </a:moveTo>
                <a:cubicBezTo>
                  <a:pt x="706" y="54"/>
                  <a:pt x="743" y="70"/>
                  <a:pt x="703" y="30"/>
                </a:cubicBezTo>
                <a:cubicBezTo>
                  <a:pt x="692" y="19"/>
                  <a:pt x="664" y="6"/>
                  <a:pt x="651" y="0"/>
                </a:cubicBezTo>
                <a:cubicBezTo>
                  <a:pt x="549" y="11"/>
                  <a:pt x="442" y="30"/>
                  <a:pt x="344" y="60"/>
                </a:cubicBezTo>
                <a:cubicBezTo>
                  <a:pt x="316" y="69"/>
                  <a:pt x="275" y="78"/>
                  <a:pt x="247" y="90"/>
                </a:cubicBezTo>
                <a:cubicBezTo>
                  <a:pt x="226" y="99"/>
                  <a:pt x="187" y="120"/>
                  <a:pt x="187" y="120"/>
                </a:cubicBezTo>
                <a:cubicBezTo>
                  <a:pt x="166" y="151"/>
                  <a:pt x="141" y="147"/>
                  <a:pt x="112" y="172"/>
                </a:cubicBezTo>
                <a:cubicBezTo>
                  <a:pt x="86" y="195"/>
                  <a:pt x="74" y="218"/>
                  <a:pt x="45" y="239"/>
                </a:cubicBezTo>
                <a:cubicBezTo>
                  <a:pt x="35" y="254"/>
                  <a:pt x="25" y="269"/>
                  <a:pt x="15" y="284"/>
                </a:cubicBezTo>
                <a:cubicBezTo>
                  <a:pt x="10" y="292"/>
                  <a:pt x="0" y="307"/>
                  <a:pt x="0" y="307"/>
                </a:cubicBezTo>
                <a:cubicBezTo>
                  <a:pt x="2" y="347"/>
                  <a:pt x="2" y="387"/>
                  <a:pt x="7" y="426"/>
                </a:cubicBezTo>
                <a:cubicBezTo>
                  <a:pt x="16" y="495"/>
                  <a:pt x="61" y="550"/>
                  <a:pt x="97" y="606"/>
                </a:cubicBezTo>
                <a:cubicBezTo>
                  <a:pt x="109" y="624"/>
                  <a:pt x="130" y="633"/>
                  <a:pt x="142" y="651"/>
                </a:cubicBezTo>
                <a:cubicBezTo>
                  <a:pt x="165" y="686"/>
                  <a:pt x="176" y="711"/>
                  <a:pt x="209" y="733"/>
                </a:cubicBezTo>
                <a:cubicBezTo>
                  <a:pt x="291" y="853"/>
                  <a:pt x="419" y="834"/>
                  <a:pt x="546" y="868"/>
                </a:cubicBezTo>
                <a:cubicBezTo>
                  <a:pt x="611" y="863"/>
                  <a:pt x="676" y="861"/>
                  <a:pt x="740" y="853"/>
                </a:cubicBezTo>
                <a:cubicBezTo>
                  <a:pt x="792" y="847"/>
                  <a:pt x="822" y="822"/>
                  <a:pt x="868" y="808"/>
                </a:cubicBezTo>
                <a:cubicBezTo>
                  <a:pt x="917" y="756"/>
                  <a:pt x="978" y="727"/>
                  <a:pt x="1040" y="696"/>
                </a:cubicBezTo>
                <a:cubicBezTo>
                  <a:pt x="1047" y="686"/>
                  <a:pt x="1053" y="675"/>
                  <a:pt x="1062" y="666"/>
                </a:cubicBezTo>
                <a:cubicBezTo>
                  <a:pt x="1068" y="660"/>
                  <a:pt x="1079" y="658"/>
                  <a:pt x="1085" y="651"/>
                </a:cubicBezTo>
                <a:cubicBezTo>
                  <a:pt x="1097" y="638"/>
                  <a:pt x="1101" y="619"/>
                  <a:pt x="1114" y="606"/>
                </a:cubicBezTo>
                <a:cubicBezTo>
                  <a:pt x="1148" y="572"/>
                  <a:pt x="1185" y="527"/>
                  <a:pt x="1212" y="486"/>
                </a:cubicBezTo>
                <a:cubicBezTo>
                  <a:pt x="1214" y="478"/>
                  <a:pt x="1227" y="439"/>
                  <a:pt x="1227" y="434"/>
                </a:cubicBezTo>
                <a:cubicBezTo>
                  <a:pt x="1222" y="361"/>
                  <a:pt x="1172" y="280"/>
                  <a:pt x="1107" y="247"/>
                </a:cubicBezTo>
                <a:cubicBezTo>
                  <a:pt x="1067" y="167"/>
                  <a:pt x="1122" y="262"/>
                  <a:pt x="1062" y="202"/>
                </a:cubicBezTo>
                <a:cubicBezTo>
                  <a:pt x="1054" y="194"/>
                  <a:pt x="1054" y="181"/>
                  <a:pt x="1047" y="172"/>
                </a:cubicBezTo>
                <a:cubicBezTo>
                  <a:pt x="1030" y="152"/>
                  <a:pt x="994" y="141"/>
                  <a:pt x="972" y="127"/>
                </a:cubicBezTo>
                <a:cubicBezTo>
                  <a:pt x="958" y="81"/>
                  <a:pt x="888" y="44"/>
                  <a:pt x="845" y="22"/>
                </a:cubicBezTo>
                <a:cubicBezTo>
                  <a:pt x="789" y="32"/>
                  <a:pt x="730" y="45"/>
                  <a:pt x="673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"/>
          <p:cNvSpPr/>
          <p:nvPr/>
        </p:nvSpPr>
        <p:spPr>
          <a:xfrm>
            <a:off x="4932360" y="4365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4932360" y="44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5150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3">
            <a:hlinkClick r:id="rId1"/>
          </p:cNvPr>
          <p:cNvSpPr/>
          <p:nvPr/>
        </p:nvSpPr>
        <p:spPr>
          <a:xfrm>
            <a:off x="5148360" y="4005360"/>
            <a:ext cx="215640" cy="28872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908">
                <a:moveTo>
                  <a:pt x="0" y="0"/>
                </a:moveTo>
                <a:lnTo>
                  <a:pt x="21600" y="0"/>
                </a:lnTo>
                <a:lnTo>
                  <a:pt x="21600" y="28908"/>
                </a:lnTo>
                <a:lnTo>
                  <a:pt x="0" y="28908"/>
                </a:lnTo>
                <a:close/>
              </a:path>
              <a:path fill="lightenLess" w="21600" h="28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08">
                <a:moveTo>
                  <a:pt x="21600" y="0"/>
                </a:moveTo>
                <a:lnTo>
                  <a:pt x="21600" y="28908"/>
                </a:lnTo>
                <a:lnTo>
                  <a:pt x="20200" y="27508"/>
                </a:lnTo>
                <a:lnTo>
                  <a:pt x="20200" y="1400"/>
                </a:lnTo>
                <a:close/>
              </a:path>
              <a:path fill="darkenLess" w="21600" h="28908">
                <a:moveTo>
                  <a:pt x="21600" y="28908"/>
                </a:moveTo>
                <a:lnTo>
                  <a:pt x="0" y="28908"/>
                </a:lnTo>
                <a:lnTo>
                  <a:pt x="1400" y="27508"/>
                </a:lnTo>
                <a:lnTo>
                  <a:pt x="20200" y="27508"/>
                </a:lnTo>
                <a:close/>
              </a:path>
              <a:path fill="lighten" w="21600" h="28908">
                <a:moveTo>
                  <a:pt x="0" y="28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08"/>
                </a:lnTo>
                <a:close/>
              </a:path>
              <a:path fill="darken" w="21600" h="28908">
                <a:moveTo>
                  <a:pt x="10800" y="184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908">
                <a:moveTo>
                  <a:pt x="11905" y="17935"/>
                </a:moveTo>
                <a:lnTo>
                  <a:pt x="11905" y="15977"/>
                </a:lnTo>
                <a:cubicBezTo>
                  <a:pt x="11905" y="15150"/>
                  <a:pt x="12236" y="14454"/>
                  <a:pt x="12837" y="14454"/>
                </a:cubicBezTo>
                <a:cubicBezTo>
                  <a:pt x="13968" y="14454"/>
                  <a:pt x="14865" y="13088"/>
                  <a:pt x="14865" y="11503"/>
                </a:cubicBezTo>
                <a:cubicBezTo>
                  <a:pt x="14865" y="9188"/>
                  <a:pt x="13011" y="7448"/>
                  <a:pt x="10800" y="7448"/>
                </a:cubicBezTo>
                <a:cubicBezTo>
                  <a:pt x="8589" y="7448"/>
                  <a:pt x="6918" y="9188"/>
                  <a:pt x="6918" y="11503"/>
                </a:cubicBezTo>
                <a:lnTo>
                  <a:pt x="8772" y="11503"/>
                </a:lnTo>
                <a:cubicBezTo>
                  <a:pt x="8772" y="10363"/>
                  <a:pt x="9695" y="9475"/>
                  <a:pt x="10800" y="9475"/>
                </a:cubicBezTo>
                <a:cubicBezTo>
                  <a:pt x="11905" y="9475"/>
                  <a:pt x="12837" y="10363"/>
                  <a:pt x="12837" y="11503"/>
                </a:cubicBezTo>
                <a:cubicBezTo>
                  <a:pt x="12837" y="12243"/>
                  <a:pt x="12367" y="12974"/>
                  <a:pt x="11905" y="12974"/>
                </a:cubicBezTo>
                <a:cubicBezTo>
                  <a:pt x="10800" y="12974"/>
                  <a:pt x="9695" y="14454"/>
                  <a:pt x="9695" y="15977"/>
                </a:cubicBezTo>
                <a:lnTo>
                  <a:pt x="9695" y="179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4"/>
          <p:cNvSpPr/>
          <p:nvPr/>
        </p:nvSpPr>
        <p:spPr>
          <a:xfrm>
            <a:off x="2916360" y="4437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148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36">
                <a:moveTo>
                  <a:pt x="11905" y="14299"/>
                </a:moveTo>
                <a:lnTo>
                  <a:pt x="11905" y="12341"/>
                </a:lnTo>
                <a:cubicBezTo>
                  <a:pt x="11905" y="11514"/>
                  <a:pt x="12236" y="10818"/>
                  <a:pt x="12837" y="10818"/>
                </a:cubicBezTo>
                <a:cubicBezTo>
                  <a:pt x="13968" y="10818"/>
                  <a:pt x="14865" y="9452"/>
                  <a:pt x="14865" y="7867"/>
                </a:cubicBezTo>
                <a:cubicBezTo>
                  <a:pt x="14865" y="5552"/>
                  <a:pt x="13011" y="3812"/>
                  <a:pt x="10800" y="3812"/>
                </a:cubicBezTo>
                <a:cubicBezTo>
                  <a:pt x="8589" y="3812"/>
                  <a:pt x="6918" y="5552"/>
                  <a:pt x="6918" y="7867"/>
                </a:cubicBezTo>
                <a:lnTo>
                  <a:pt x="8772" y="7867"/>
                </a:lnTo>
                <a:cubicBezTo>
                  <a:pt x="8772" y="6727"/>
                  <a:pt x="9695" y="5839"/>
                  <a:pt x="10800" y="5839"/>
                </a:cubicBezTo>
                <a:cubicBezTo>
                  <a:pt x="11905" y="5839"/>
                  <a:pt x="12837" y="6727"/>
                  <a:pt x="12837" y="7867"/>
                </a:cubicBezTo>
                <a:cubicBezTo>
                  <a:pt x="12837" y="8607"/>
                  <a:pt x="12367" y="9338"/>
                  <a:pt x="11905" y="9338"/>
                </a:cubicBezTo>
                <a:cubicBezTo>
                  <a:pt x="10800" y="9338"/>
                  <a:pt x="9695" y="10818"/>
                  <a:pt x="9695" y="12341"/>
                </a:cubicBezTo>
                <a:lnTo>
                  <a:pt x="9695" y="14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17"/>
          <p:cNvSpPr/>
          <p:nvPr/>
        </p:nvSpPr>
        <p:spPr>
          <a:xfrm>
            <a:off x="2050920" y="595008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326" h="235">
                <a:moveTo>
                  <a:pt x="315" y="40"/>
                </a:moveTo>
                <a:cubicBezTo>
                  <a:pt x="253" y="0"/>
                  <a:pt x="211" y="12"/>
                  <a:pt x="135" y="18"/>
                </a:cubicBezTo>
                <a:cubicBezTo>
                  <a:pt x="109" y="24"/>
                  <a:pt x="85" y="32"/>
                  <a:pt x="60" y="40"/>
                </a:cubicBezTo>
                <a:cubicBezTo>
                  <a:pt x="41" y="69"/>
                  <a:pt x="19" y="71"/>
                  <a:pt x="0" y="100"/>
                </a:cubicBezTo>
                <a:cubicBezTo>
                  <a:pt x="9" y="156"/>
                  <a:pt x="5" y="179"/>
                  <a:pt x="60" y="197"/>
                </a:cubicBezTo>
                <a:cubicBezTo>
                  <a:pt x="87" y="215"/>
                  <a:pt x="76" y="210"/>
                  <a:pt x="105" y="220"/>
                </a:cubicBezTo>
                <a:cubicBezTo>
                  <a:pt x="120" y="225"/>
                  <a:pt x="150" y="235"/>
                  <a:pt x="150" y="235"/>
                </a:cubicBezTo>
                <a:cubicBezTo>
                  <a:pt x="177" y="230"/>
                  <a:pt x="205" y="228"/>
                  <a:pt x="232" y="220"/>
                </a:cubicBezTo>
                <a:cubicBezTo>
                  <a:pt x="262" y="211"/>
                  <a:pt x="267" y="177"/>
                  <a:pt x="292" y="160"/>
                </a:cubicBezTo>
                <a:cubicBezTo>
                  <a:pt x="306" y="107"/>
                  <a:pt x="326" y="97"/>
                  <a:pt x="315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140360" y="2492280"/>
            <a:ext cx="216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755640" y="2060640"/>
            <a:ext cx="266400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слож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y(x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функци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Возьмем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дполагаем, что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042920" y="2276640"/>
                <a:ext cx="208908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6"/>
              <p:cNvSpPr txBox="1"/>
              <p:nvPr/>
            </p:nvSpPr>
            <p:spPr>
              <a:xfrm>
                <a:off x="1116000" y="2927520"/>
                <a:ext cx="1152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8"/>
              <p:cNvSpPr txBox="1"/>
              <p:nvPr/>
            </p:nvSpPr>
            <p:spPr>
              <a:xfrm>
                <a:off x="1063800" y="3213000"/>
                <a:ext cx="20952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че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0"/>
              <p:cNvSpPr txBox="1"/>
              <p:nvPr/>
            </p:nvSpPr>
            <p:spPr>
              <a:xfrm>
                <a:off x="4140360" y="2492280"/>
                <a:ext cx="208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AutoShape 12"/>
          <p:cNvSpPr/>
          <p:nvPr/>
        </p:nvSpPr>
        <p:spPr>
          <a:xfrm>
            <a:off x="3492360" y="2781360"/>
            <a:ext cx="574920" cy="216000"/>
          </a:xfrm>
          <a:prstGeom prst="rightArrow">
            <a:avLst>
              <a:gd name="adj1" fmla="val 50000"/>
              <a:gd name="adj2" fmla="val 665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3"/>
              <p:cNvSpPr txBox="1"/>
              <p:nvPr/>
            </p:nvSpPr>
            <p:spPr>
              <a:xfrm>
                <a:off x="1692360" y="4221000"/>
                <a:ext cx="15112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u</m:t>
                    </m:r>
                    <m:r>
                      <m:t xml:space="preserve">⇒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2556000" y="4437000"/>
                <a:ext cx="57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5"/>
              <p:cNvSpPr txBox="1"/>
              <p:nvPr/>
            </p:nvSpPr>
            <p:spPr>
              <a:xfrm>
                <a:off x="1116000" y="4581360"/>
                <a:ext cx="1260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u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AutoShape 18"/>
          <p:cNvSpPr/>
          <p:nvPr/>
        </p:nvSpPr>
        <p:spPr>
          <a:xfrm>
            <a:off x="1835280" y="602136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" w="21600" h="36072">
                <a:moveTo>
                  <a:pt x="10800" y="220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6072">
                <a:moveTo>
                  <a:pt x="11905" y="21517"/>
                </a:moveTo>
                <a:lnTo>
                  <a:pt x="11905" y="19559"/>
                </a:lnTo>
                <a:cubicBezTo>
                  <a:pt x="11905" y="18732"/>
                  <a:pt x="12236" y="18036"/>
                  <a:pt x="12837" y="18036"/>
                </a:cubicBezTo>
                <a:cubicBezTo>
                  <a:pt x="13968" y="18036"/>
                  <a:pt x="14865" y="16670"/>
                  <a:pt x="14865" y="15085"/>
                </a:cubicBezTo>
                <a:cubicBezTo>
                  <a:pt x="14865" y="12770"/>
                  <a:pt x="13011" y="11030"/>
                  <a:pt x="10800" y="11030"/>
                </a:cubicBezTo>
                <a:cubicBezTo>
                  <a:pt x="8589" y="11030"/>
                  <a:pt x="6918" y="12770"/>
                  <a:pt x="6918" y="15085"/>
                </a:cubicBezTo>
                <a:lnTo>
                  <a:pt x="8772" y="15085"/>
                </a:lnTo>
                <a:cubicBezTo>
                  <a:pt x="8772" y="13945"/>
                  <a:pt x="9695" y="13057"/>
                  <a:pt x="10800" y="13057"/>
                </a:cubicBezTo>
                <a:cubicBezTo>
                  <a:pt x="11905" y="13057"/>
                  <a:pt x="12837" y="13945"/>
                  <a:pt x="12837" y="15085"/>
                </a:cubicBezTo>
                <a:cubicBezTo>
                  <a:pt x="12837" y="15825"/>
                  <a:pt x="12367" y="16556"/>
                  <a:pt x="11905" y="16556"/>
                </a:cubicBezTo>
                <a:cubicBezTo>
                  <a:pt x="10800" y="16556"/>
                  <a:pt x="9695" y="18036"/>
                  <a:pt x="9695" y="19559"/>
                </a:cubicBezTo>
                <a:lnTo>
                  <a:pt x="9695" y="215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3711240" y="58053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ч.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6"/>
              <p:cNvSpPr txBox="1"/>
              <p:nvPr/>
            </p:nvSpPr>
            <p:spPr>
              <a:xfrm>
                <a:off x="1042920" y="5084640"/>
                <a:ext cx="2548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u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7:14Z</dcterms:created>
  <dc:creator>Asus</dc:creator>
  <dc:description/>
  <dc:language>en-US</dc:language>
  <cp:lastModifiedBy>Пользователь</cp:lastModifiedBy>
  <dcterms:modified xsi:type="dcterms:W3CDTF">2018-07-01T12:30:00Z</dcterms:modified>
  <cp:revision>62</cp:revision>
  <dc:subject/>
  <dc:title>Слайд 1</dc:title>
</cp:coreProperties>
</file>